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153280" cy="533520"/>
          </a:xfrm>
          <a:prstGeom prst="rect">
            <a:avLst/>
          </a:prstGeom>
          <a:solidFill>
            <a:srgbClr val="74a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153280" y="0"/>
            <a:ext cx="990720" cy="533520"/>
            <a:chOff x="8153280" y="0"/>
            <a:chExt cx="990720" cy="533520"/>
          </a:xfrm>
        </p:grpSpPr>
        <p:sp>
          <p:nvSpPr>
            <p:cNvPr id="2" name=""/>
            <p:cNvSpPr/>
            <p:nvPr/>
          </p:nvSpPr>
          <p:spPr>
            <a:xfrm>
              <a:off x="8153280" y="0"/>
              <a:ext cx="9907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8191440" y="290520"/>
              <a:ext cx="914400" cy="1666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14440" y="2235240"/>
            <a:ext cx="3494160" cy="43196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-26640" y="171360"/>
            <a:ext cx="1915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Frutiger LT Std 45 Light"/>
                <a:ea typeface="HGPｺﾞｼｯｸM"/>
              </a:rPr>
              <a:t>■</a:t>
            </a:r>
            <a:r>
              <a:rPr b="0" lang="ja-JP" sz="1100" spc="-1" strike="noStrike">
                <a:solidFill>
                  <a:srgbClr val="ffffff"/>
                </a:solidFill>
                <a:latin typeface="Frutiger LT Std 45 Light"/>
                <a:ea typeface="HGPｺﾞｼｯｸM"/>
              </a:rPr>
              <a:t>Details for Greenguard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71720" y="1724040"/>
            <a:ext cx="3260880" cy="279360"/>
          </a:xfrm>
          <a:prstGeom prst="borderCallout2">
            <a:avLst>
              <a:gd name="adj1" fmla="val 18750"/>
              <a:gd name="adj2" fmla="val -8333"/>
              <a:gd name="adj3" fmla="val 40907"/>
              <a:gd name="adj4" fmla="val -5888"/>
              <a:gd name="adj5" fmla="val 472157"/>
              <a:gd name="adj6" fmla="val -18060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Backrest mesh : From Wilkhahn German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080" y="1133640"/>
            <a:ext cx="1346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Aline-230 r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160" y="1035000"/>
            <a:ext cx="88455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6520" y="2516040"/>
            <a:ext cx="3260880" cy="279720"/>
          </a:xfrm>
          <a:prstGeom prst="borderCallout2">
            <a:avLst>
              <a:gd name="adj1" fmla="val 18750"/>
              <a:gd name="adj2" fmla="val -8333"/>
              <a:gd name="adj3" fmla="val 40907"/>
              <a:gd name="adj4" fmla="val -5745"/>
              <a:gd name="adj5" fmla="val 261930"/>
              <a:gd name="adj6" fmla="val -17379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Backrest frame : From Wilkhahn German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46520" y="3219480"/>
            <a:ext cx="3260880" cy="279360"/>
          </a:xfrm>
          <a:prstGeom prst="borderCallout2">
            <a:avLst>
              <a:gd name="adj1" fmla="val 18750"/>
              <a:gd name="adj2" fmla="val -8333"/>
              <a:gd name="adj3" fmla="val 40907"/>
              <a:gd name="adj4" fmla="val -12222"/>
              <a:gd name="adj5" fmla="val 304546"/>
              <a:gd name="adj6" fmla="val -46106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Seat mesh : From Wilkhahn German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8120" y="3994200"/>
            <a:ext cx="3260520" cy="279360"/>
          </a:xfrm>
          <a:prstGeom prst="borderCallout2">
            <a:avLst>
              <a:gd name="adj1" fmla="val 18750"/>
              <a:gd name="adj2" fmla="val -8333"/>
              <a:gd name="adj3" fmla="val 40907"/>
              <a:gd name="adj4" fmla="val -11685"/>
              <a:gd name="adj5" fmla="val 155115"/>
              <a:gd name="adj6" fmla="val -43814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Seat frame : From Wilkhahn German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56240" y="4684680"/>
            <a:ext cx="3260520" cy="631800"/>
          </a:xfrm>
          <a:prstGeom prst="borderCallout2">
            <a:avLst>
              <a:gd name="adj1" fmla="val 18750"/>
              <a:gd name="adj2" fmla="val -8333"/>
              <a:gd name="adj3" fmla="val 18092"/>
              <a:gd name="adj4" fmla="val -11685"/>
              <a:gd name="adj5" fmla="val 112814"/>
              <a:gd name="adj6" fmla="val -43814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Metal frame : From Wilkhahn Germany now but Wilkhahn Japan is working on to manufacture this locally in Japan no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080" y="720720"/>
            <a:ext cx="799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Almost all parts are from Wilkhahn Germany and Aline is assembled completely in Japa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3289320" cy="3959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26640" y="171360"/>
            <a:ext cx="1915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Frutiger LT Std 45 Light"/>
                <a:ea typeface="HGPｺﾞｼｯｸM"/>
              </a:rPr>
              <a:t>■</a:t>
            </a:r>
            <a:r>
              <a:rPr b="0" lang="ja-JP" sz="1100" spc="-1" strike="noStrike">
                <a:solidFill>
                  <a:srgbClr val="ffffff"/>
                </a:solidFill>
                <a:latin typeface="Frutiger LT Std 45 Light"/>
                <a:ea typeface="HGPｺﾞｼｯｸM"/>
              </a:rPr>
              <a:t>Details for Greenguard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71720" y="1724040"/>
            <a:ext cx="3260880" cy="279360"/>
          </a:xfrm>
          <a:prstGeom prst="borderCallout2">
            <a:avLst>
              <a:gd name="adj1" fmla="val 18750"/>
              <a:gd name="adj2" fmla="val -8333"/>
              <a:gd name="adj3" fmla="val 40907"/>
              <a:gd name="adj4" fmla="val -5888"/>
              <a:gd name="adj5" fmla="val 472157"/>
              <a:gd name="adj6" fmla="val -18060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Backrest shell: From Wilkhahn German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080" y="1133640"/>
            <a:ext cx="1346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Sito-240 r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160" y="1035000"/>
            <a:ext cx="88455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080" y="720720"/>
            <a:ext cx="799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Almost all parts are from Wilkhahn Germany and Sito is assembled completely in Japa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46520" y="2516040"/>
            <a:ext cx="3260880" cy="279720"/>
          </a:xfrm>
          <a:prstGeom prst="borderCallout2">
            <a:avLst>
              <a:gd name="adj1" fmla="val 18750"/>
              <a:gd name="adj2" fmla="val -8333"/>
              <a:gd name="adj3" fmla="val 40907"/>
              <a:gd name="adj4" fmla="val -5842"/>
              <a:gd name="adj5" fmla="val 288634"/>
              <a:gd name="adj6" fmla="val -17722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Armrest : From Wilkhahn German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46520" y="3459240"/>
            <a:ext cx="3260880" cy="480960"/>
          </a:xfrm>
          <a:prstGeom prst="borderCallout2">
            <a:avLst>
              <a:gd name="adj1" fmla="val 18750"/>
              <a:gd name="adj2" fmla="val -8333"/>
              <a:gd name="adj3" fmla="val 23763"/>
              <a:gd name="adj4" fmla="val -9592"/>
              <a:gd name="adj5" fmla="val 159407"/>
              <a:gd name="adj6" fmla="val -34370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Seat frame, seat cusion,fabric : From Wilkhahn German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56240" y="4684680"/>
            <a:ext cx="3260520" cy="652320"/>
          </a:xfrm>
          <a:prstGeom prst="borderCallout2">
            <a:avLst>
              <a:gd name="adj1" fmla="val 18750"/>
              <a:gd name="adj2" fmla="val -8333"/>
              <a:gd name="adj3" fmla="val 17518"/>
              <a:gd name="adj4" fmla="val -17625"/>
              <a:gd name="adj5" fmla="val 110949"/>
              <a:gd name="adj6" fmla="val -70254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Metal frame : From Wilkhahn 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                      </a:t>
            </a: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1 cooperative company in Gifu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                      </a:t>
            </a: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prefec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71840" y="4502160"/>
            <a:ext cx="1996920" cy="1438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17165" r="46830" b="21486"/>
          <a:stretch/>
        </p:blipFill>
        <p:spPr>
          <a:xfrm>
            <a:off x="4370400" y="5086440"/>
            <a:ext cx="1382760" cy="119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6160" y="1368360"/>
            <a:ext cx="3914640" cy="270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26640" y="171360"/>
            <a:ext cx="1915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Frutiger LT Std 45 Light"/>
                <a:ea typeface="HGPｺﾞｼｯｸM"/>
              </a:rPr>
              <a:t>■</a:t>
            </a:r>
            <a:r>
              <a:rPr b="0" lang="ja-JP" sz="1100" spc="-1" strike="noStrike">
                <a:solidFill>
                  <a:srgbClr val="ffffff"/>
                </a:solidFill>
                <a:latin typeface="Frutiger LT Std 45 Light"/>
                <a:ea typeface="HGPｺﾞｼｯｸM"/>
              </a:rPr>
              <a:t>Details for Greenguard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7800" y="1724040"/>
            <a:ext cx="3260520" cy="614520"/>
          </a:xfrm>
          <a:prstGeom prst="borderCallout2">
            <a:avLst>
              <a:gd name="adj1" fmla="val 18750"/>
              <a:gd name="adj2" fmla="val -8333"/>
              <a:gd name="adj3" fmla="val 18606"/>
              <a:gd name="adj4" fmla="val -8226"/>
              <a:gd name="adj5" fmla="val 36435"/>
              <a:gd name="adj6" fmla="val -28481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Table tops : From Wilkhahn 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                   </a:t>
            </a: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2 cooperative companies in Saitama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                   </a:t>
            </a: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prefecture and Shizuoka prefec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080" y="1133640"/>
            <a:ext cx="41799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Table ( Model:Timetable,Logon,Confair,Palette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160" y="1035000"/>
            <a:ext cx="88455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080" y="720720"/>
            <a:ext cx="799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Almost all parts are from Wilkhahn Germany and table is assembled completely in Japa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57800" y="2505240"/>
            <a:ext cx="3260520" cy="279360"/>
          </a:xfrm>
          <a:prstGeom prst="borderCallout2">
            <a:avLst>
              <a:gd name="adj1" fmla="val 18750"/>
              <a:gd name="adj2" fmla="val -8333"/>
              <a:gd name="adj3" fmla="val 40907"/>
              <a:gd name="adj4" fmla="val -8375"/>
              <a:gd name="adj5" fmla="val -140907"/>
              <a:gd name="adj6" fmla="val -28824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Rubber edge : From Wilkhahn German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57800" y="3035160"/>
            <a:ext cx="326052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10907"/>
              <a:gd name="adj5" fmla="val -121356"/>
              <a:gd name="adj6" fmla="val -40166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E"/>
              </a:rPr>
              <a:t>Column,foot,castor : From Wilkhahn Ger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79760" y="3340080"/>
            <a:ext cx="770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Time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031080" y="4254480"/>
            <a:ext cx="2763720" cy="18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33240" y="4483080"/>
            <a:ext cx="1266840" cy="180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5040" y="6283440"/>
            <a:ext cx="995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Confair 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05360" y="6283440"/>
            <a:ext cx="9954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Log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6283440"/>
            <a:ext cx="9954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Palet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6160" y="4075200"/>
            <a:ext cx="884556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21200" y="3460680"/>
            <a:ext cx="3260880" cy="614520"/>
          </a:xfrm>
          <a:prstGeom prst="borderCallout2">
            <a:avLst>
              <a:gd name="adj1" fmla="val 18750"/>
              <a:gd name="adj2" fmla="val -8333"/>
              <a:gd name="adj3" fmla="val 18606"/>
              <a:gd name="adj4" fmla="val -3018"/>
              <a:gd name="adj5" fmla="val 294574"/>
              <a:gd name="adj6" fmla="val -5259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Center metal frame : From Wilkhahn 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                      </a:t>
            </a: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1 cooperative company in Saitam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Frutiger LT Std 45 Light"/>
                <a:ea typeface="HGPｺﾞｼｯｸM"/>
              </a:rPr>
              <a:t>*This is used on backside of the table top.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35320" y="4221000"/>
            <a:ext cx="0" cy="230832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66000" y="4232160"/>
            <a:ext cx="0" cy="230832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4T12:46:07Z</dcterms:created>
  <dc:creator>Wilkhahn</dc:creator>
  <dc:description/>
  <dc:language>en-US</dc:language>
  <cp:lastModifiedBy>BB</cp:lastModifiedBy>
  <dcterms:modified xsi:type="dcterms:W3CDTF">2010-05-04T07:02:35Z</dcterms:modified>
  <cp:revision>435</cp:revision>
  <dc:subject/>
  <dc:title>PowerPoint プレゼンテーション</dc:title>
</cp:coreProperties>
</file>